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57240"/>
            <a:ext cx="7925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5724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365724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9903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99036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5724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365724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3657240"/>
            <a:ext cx="25516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386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990360"/>
            <a:ext cx="386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160" y="304920"/>
            <a:ext cx="792468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990360"/>
            <a:ext cx="386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5724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3867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365724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990360"/>
            <a:ext cx="38671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57240"/>
            <a:ext cx="7925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" descr=""/>
          <p:cNvPicPr/>
          <p:nvPr/>
        </p:nvPicPr>
        <p:blipFill>
          <a:blip r:embed="rId2"/>
          <a:stretch/>
        </p:blipFill>
        <p:spPr>
          <a:xfrm>
            <a:off x="533520" y="838080"/>
            <a:ext cx="8076960" cy="5410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8584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792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串行通信及其接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6858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6633"/>
                </a:solidFill>
                <a:uFillTx/>
                <a:latin typeface="Times New Roman"/>
                <a:hlinkClick r:id="rId1" action="ppaction://hlinksldjump"/>
              </a:rPr>
              <a:t>7.1  概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666633"/>
                </a:solidFill>
                <a:uFillTx/>
                <a:latin typeface="Times New Roman"/>
                <a:hlinkClick r:id="rId2" action="ppaction://hlinksldjump"/>
              </a:rPr>
              <a:t>7.2  </a:t>
            </a:r>
            <a:r>
              <a:rPr b="1" lang="zh-CN" sz="2800" spc="-1" strike="noStrike" u="sng">
                <a:solidFill>
                  <a:srgbClr val="666633"/>
                </a:solidFill>
                <a:uFillTx/>
                <a:latin typeface="Times New Roman"/>
                <a:hlinkClick r:id="rId3" action="ppaction://hlinksldjump"/>
              </a:rPr>
              <a:t>MCS-51</a:t>
            </a:r>
            <a:r>
              <a:rPr b="1" lang="zh-CN" sz="2800" spc="-1" strike="noStrike" u="sng">
                <a:solidFill>
                  <a:srgbClr val="666633"/>
                </a:solidFill>
                <a:uFillTx/>
                <a:latin typeface="Times New Roman"/>
                <a:hlinkClick r:id="rId4" action="ppaction://hlinksldjump"/>
              </a:rPr>
              <a:t>的串行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口的控制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440" y="761760"/>
            <a:ext cx="79246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特殊功能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C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字节地址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87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没有位寻址功能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格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，其中与串行接口有关的只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33520" y="3581280"/>
            <a:ext cx="8076600" cy="739800"/>
            <a:chOff x="533520" y="3581280"/>
            <a:chExt cx="8076600" cy="739800"/>
          </a:xfrm>
        </p:grpSpPr>
        <p:grpSp>
          <p:nvGrpSpPr>
            <p:cNvPr id="166" name=""/>
            <p:cNvGrpSpPr/>
            <p:nvPr/>
          </p:nvGrpSpPr>
          <p:grpSpPr>
            <a:xfrm>
              <a:off x="540360" y="3585960"/>
              <a:ext cx="8061840" cy="730080"/>
              <a:chOff x="540360" y="3585960"/>
              <a:chExt cx="8061840" cy="730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540360" y="3585960"/>
                <a:ext cx="895320" cy="730080"/>
                <a:chOff x="540360" y="3585960"/>
                <a:chExt cx="895320" cy="73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1920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4036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436040" y="3585960"/>
                <a:ext cx="895320" cy="730080"/>
                <a:chOff x="1436040" y="3585960"/>
                <a:chExt cx="895320" cy="7300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51488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O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43604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2331720" y="3585960"/>
                <a:ext cx="895320" cy="730080"/>
                <a:chOff x="2331720" y="3585960"/>
                <a:chExt cx="895320" cy="730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2410560" y="3585960"/>
                  <a:ext cx="7380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233172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3227400" y="3585960"/>
                <a:ext cx="895680" cy="730080"/>
                <a:chOff x="3227400" y="3585960"/>
                <a:chExt cx="895680" cy="73008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3306240" y="3585960"/>
                  <a:ext cx="7380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227400" y="3585960"/>
                  <a:ext cx="89568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4123800" y="3585960"/>
                <a:ext cx="895320" cy="730080"/>
                <a:chOff x="4123800" y="3585960"/>
                <a:chExt cx="895320" cy="7300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20264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12380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5019480" y="3585960"/>
                <a:ext cx="895320" cy="730080"/>
                <a:chOff x="5019480" y="3585960"/>
                <a:chExt cx="895320" cy="730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509832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501948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5915160" y="3585960"/>
                <a:ext cx="895320" cy="730080"/>
                <a:chOff x="5915160" y="3585960"/>
                <a:chExt cx="895320" cy="730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599400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591516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811200" y="3585960"/>
                <a:ext cx="895320" cy="730080"/>
                <a:chOff x="6811200" y="3585960"/>
                <a:chExt cx="895320" cy="730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89004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81120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7706880" y="3585960"/>
                <a:ext cx="895320" cy="730080"/>
                <a:chOff x="7706880" y="3585960"/>
                <a:chExt cx="895320" cy="7300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7785720" y="3585960"/>
                  <a:ext cx="737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706880" y="3585960"/>
                  <a:ext cx="8953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4" name=""/>
            <p:cNvSpPr/>
            <p:nvPr/>
          </p:nvSpPr>
          <p:spPr>
            <a:xfrm>
              <a:off x="533520" y="3581280"/>
              <a:ext cx="8076600" cy="73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676520" y="3124080"/>
            <a:ext cx="70866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905120" y="49528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7  P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串行口的工作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175248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4800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串行口工作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295280" y="1752480"/>
          <a:ext cx="66963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6963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7050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4800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送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7050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0496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11735" t="34847" r="13719" b="26929"/>
          <a:stretch/>
        </p:blipFill>
        <p:spPr>
          <a:xfrm>
            <a:off x="685800" y="1301760"/>
            <a:ext cx="792468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690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0" y="4495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收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90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90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90640" y="26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38360" y="26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3899" t="38072" r="9028" b="20239"/>
          <a:stretch/>
        </p:blipFill>
        <p:spPr>
          <a:xfrm>
            <a:off x="762120" y="990720"/>
            <a:ext cx="752004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6049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14600" y="5029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送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500200" y="2585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13176" t="36630" r="8305" b="20724"/>
          <a:stretch/>
        </p:blipFill>
        <p:spPr>
          <a:xfrm>
            <a:off x="609480" y="1219320"/>
            <a:ext cx="807732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09680" y="48769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接收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289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512" t="44869" r="14258" b="20756"/>
          <a:stretch/>
        </p:blipFill>
        <p:spPr>
          <a:xfrm>
            <a:off x="0" y="1066680"/>
            <a:ext cx="891540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92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76520" y="5029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发送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24240" y="24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rcRect l="8485" t="33254" r="10110" b="17304"/>
          <a:stretch/>
        </p:blipFill>
        <p:spPr>
          <a:xfrm>
            <a:off x="762120" y="1211400"/>
            <a:ext cx="7238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433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0968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接收时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47920" y="2790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rcRect l="10649" t="34847" r="5055" b="32894"/>
          <a:stretch/>
        </p:blipFill>
        <p:spPr>
          <a:xfrm>
            <a:off x="61920" y="1285920"/>
            <a:ext cx="87771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方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串行口工作在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波特率可变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异步通信方式，除了波特率外，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相同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波特率由下式确定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波特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SMO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/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定时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T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溢出率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波特率的计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752480" y="15238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7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波特率计算公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990720" y="2514600"/>
          <a:ext cx="6843600" cy="24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14600"/>
                    <a:ext cx="684360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述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通信是将数据的各位一位一位地依次传送。适合于计算机之间、计算机与外部设备之间的远距离通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通信从传输方式分为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单工方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、半双工方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、全双工方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接收方式来说，串行通信有两种方式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异步通信方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、同步通信方式（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133720" y="990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常用的波特率及计算器初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452600" y="1981080"/>
          <a:ext cx="593892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981080"/>
                    <a:ext cx="593892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串行口的控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6705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从机间的通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机通信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从机间的通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双机串行异步通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单片机与单片机间的串行异步通信接口设计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4~7-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单片机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系列微机间的异步串行通信接口设计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7196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8031直连" descr=""/>
          <p:cNvPicPr/>
          <p:nvPr/>
        </p:nvPicPr>
        <p:blipFill>
          <a:blip r:embed="rId1"/>
          <a:stretch/>
        </p:blipFill>
        <p:spPr>
          <a:xfrm>
            <a:off x="1828800" y="1143000"/>
            <a:ext cx="5057640" cy="27874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057400" y="4876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直接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31719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803123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133960" cy="2741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523880" y="48006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232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26575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两台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7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互传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56212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13360" t="32340" r="10469" b="20901"/>
          <a:stretch/>
        </p:blipFill>
        <p:spPr>
          <a:xfrm>
            <a:off x="762120" y="1143000"/>
            <a:ext cx="711504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34383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8031PC" descr=""/>
          <p:cNvPicPr/>
          <p:nvPr/>
        </p:nvPicPr>
        <p:blipFill>
          <a:blip r:embed="rId1"/>
          <a:stretch/>
        </p:blipFill>
        <p:spPr>
          <a:xfrm>
            <a:off x="2286000" y="1447920"/>
            <a:ext cx="4562640" cy="253044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676520" y="464832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7  803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通过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S232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通信接口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  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单片机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RS232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接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分离元件电平转换电路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1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集成电路电平转换电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148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48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两种芯片的引脚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集成电路电平转换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14540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838080" y="2057400"/>
            <a:ext cx="7620120" cy="1879200"/>
            <a:chOff x="838080" y="2057400"/>
            <a:chExt cx="7620120" cy="1879200"/>
          </a:xfrm>
        </p:grpSpPr>
        <p:sp>
          <p:nvSpPr>
            <p:cNvPr id="266" name=""/>
            <p:cNvSpPr/>
            <p:nvPr/>
          </p:nvSpPr>
          <p:spPr>
            <a:xfrm>
              <a:off x="838080" y="2535840"/>
              <a:ext cx="72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562760" y="2535840"/>
              <a:ext cx="0" cy="74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562760" y="3283200"/>
              <a:ext cx="289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273080" y="2589480"/>
              <a:ext cx="109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92360" y="2558520"/>
              <a:ext cx="632520" cy="5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起始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63120" y="2589480"/>
              <a:ext cx="57060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3408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0540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747680" y="2589480"/>
              <a:ext cx="57060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7636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31828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88960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60560" y="2589480"/>
              <a:ext cx="57060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031520" y="2589480"/>
              <a:ext cx="570960" cy="69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5960" y="2057400"/>
              <a:ext cx="507240" cy="47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标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60920" y="2057400"/>
              <a:ext cx="988200" cy="39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停止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8720" y="3322080"/>
              <a:ext cx="789480" cy="61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检验位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2514600" y="44956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8  RS232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总线上传输的异步通信典型数据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380880" y="380880"/>
            <a:ext cx="7848360" cy="6019920"/>
            <a:chOff x="380880" y="380880"/>
            <a:chExt cx="7848360" cy="6019920"/>
          </a:xfrm>
        </p:grpSpPr>
        <p:grpSp>
          <p:nvGrpSpPr>
            <p:cNvPr id="285" name=""/>
            <p:cNvGrpSpPr/>
            <p:nvPr/>
          </p:nvGrpSpPr>
          <p:grpSpPr>
            <a:xfrm>
              <a:off x="387000" y="382320"/>
              <a:ext cx="7834680" cy="6016680"/>
              <a:chOff x="387000" y="382320"/>
              <a:chExt cx="7834680" cy="601668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387000" y="382320"/>
                <a:ext cx="803160" cy="263520"/>
                <a:chOff x="387000" y="382320"/>
                <a:chExt cx="803160" cy="26352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477720" y="38232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分类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87000" y="38232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1190520" y="382320"/>
                <a:ext cx="713880" cy="263520"/>
                <a:chOff x="1190520" y="382320"/>
                <a:chExt cx="713880" cy="2635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1280880" y="38232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符号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1190520" y="38232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1904760" y="382320"/>
                <a:ext cx="2134800" cy="263520"/>
                <a:chOff x="1904760" y="382320"/>
                <a:chExt cx="2134800" cy="26352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1995480" y="38232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名称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1904760" y="38232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040280" y="382320"/>
                <a:ext cx="803160" cy="263520"/>
                <a:chOff x="4040280" y="382320"/>
                <a:chExt cx="803160" cy="26352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4131000" y="38232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引脚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4040280" y="38232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4843800" y="382320"/>
                <a:ext cx="3377880" cy="263520"/>
                <a:chOff x="4843800" y="382320"/>
                <a:chExt cx="3377880" cy="26352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4934160" y="382320"/>
                  <a:ext cx="3196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说明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843800" y="382320"/>
                  <a:ext cx="3377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87000" y="645840"/>
                <a:ext cx="803160" cy="428760"/>
                <a:chOff x="387000" y="645840"/>
                <a:chExt cx="803160" cy="42876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477720" y="645840"/>
                  <a:ext cx="62100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地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87000" y="645840"/>
                  <a:ext cx="803160" cy="42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1190520" y="645840"/>
                <a:ext cx="713880" cy="428760"/>
                <a:chOff x="1190520" y="645840"/>
                <a:chExt cx="713880" cy="4287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1280880" y="645840"/>
                  <a:ext cx="532800" cy="42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190520" y="645840"/>
                  <a:ext cx="713880" cy="428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1904760" y="645840"/>
                <a:ext cx="2134800" cy="214200"/>
                <a:chOff x="1904760" y="645840"/>
                <a:chExt cx="2134800" cy="21420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1995480" y="6458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机架保护地（屏蔽地）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1904760" y="6458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4040280" y="645840"/>
                <a:ext cx="803160" cy="214200"/>
                <a:chOff x="4040280" y="645840"/>
                <a:chExt cx="803160" cy="21420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4131000" y="6458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4040280" y="6458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4843800" y="645840"/>
                <a:ext cx="3377880" cy="214200"/>
                <a:chOff x="4843800" y="645840"/>
                <a:chExt cx="3377880" cy="21420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4934160" y="64584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4843800" y="64584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904760" y="860040"/>
                <a:ext cx="2134800" cy="214200"/>
                <a:chOff x="1904760" y="860040"/>
                <a:chExt cx="2134800" cy="21420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995480" y="8600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信号地（公共地）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904760" y="8600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4040280" y="860040"/>
                <a:ext cx="803160" cy="214200"/>
                <a:chOff x="4040280" y="860040"/>
                <a:chExt cx="803160" cy="21420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4131000" y="8600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4040280" y="8600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4843800" y="860040"/>
                <a:ext cx="3377880" cy="214200"/>
                <a:chOff x="4843800" y="860040"/>
                <a:chExt cx="3377880" cy="214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934160" y="86004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4843800" y="86004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387000" y="1074600"/>
                <a:ext cx="803160" cy="1054440"/>
                <a:chOff x="387000" y="1074600"/>
                <a:chExt cx="803160" cy="10544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477720" y="1074600"/>
                  <a:ext cx="62100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数据信号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87000" y="1074600"/>
                  <a:ext cx="80316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1190520" y="1074600"/>
                <a:ext cx="713880" cy="263520"/>
                <a:chOff x="1190520" y="1074600"/>
                <a:chExt cx="713880" cy="263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280880" y="107460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X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1190520" y="107460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1904760" y="1074600"/>
                <a:ext cx="2134800" cy="263520"/>
                <a:chOff x="1904760" y="1074600"/>
                <a:chExt cx="2134800" cy="263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1995480" y="107460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数据发送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1904760" y="107460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4040280" y="1074600"/>
                <a:ext cx="803160" cy="263520"/>
                <a:chOff x="4040280" y="1074600"/>
                <a:chExt cx="803160" cy="263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4131000" y="107460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4040280" y="107460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"/>
              <p:cNvGrpSpPr/>
              <p:nvPr/>
            </p:nvGrpSpPr>
            <p:grpSpPr>
              <a:xfrm>
                <a:off x="4843800" y="1074600"/>
                <a:ext cx="3377880" cy="1054440"/>
                <a:chOff x="4843800" y="1074600"/>
                <a:chExt cx="3377880" cy="105444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934160" y="1074600"/>
                  <a:ext cx="3196800" cy="105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在无数据信息传输或收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信息间隔期，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RXD/TXD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电平为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。辅助信道传输速率较主信道低。其余同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843800" y="1074600"/>
                  <a:ext cx="3377880" cy="1054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1190520" y="1338120"/>
                <a:ext cx="713880" cy="263520"/>
                <a:chOff x="1190520" y="1338120"/>
                <a:chExt cx="713880" cy="2635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1280880" y="133812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RX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1190520" y="133812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1904760" y="1338120"/>
                <a:ext cx="2134800" cy="263520"/>
                <a:chOff x="1904760" y="1338120"/>
                <a:chExt cx="2134800" cy="2635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1995480" y="133812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数据接收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1904760" y="133812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4040280" y="1338120"/>
                <a:ext cx="803160" cy="263520"/>
                <a:chOff x="4040280" y="1338120"/>
                <a:chExt cx="803160" cy="2635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4131000" y="133812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4040280" y="133812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1190520" y="1602000"/>
                <a:ext cx="713880" cy="263520"/>
                <a:chOff x="1190520" y="1602000"/>
                <a:chExt cx="713880" cy="2635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1280880" y="160200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TX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1190520" y="160200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1904760" y="1602000"/>
                <a:ext cx="2134800" cy="263520"/>
                <a:chOff x="1904760" y="1602000"/>
                <a:chExt cx="2134800" cy="26352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1995480" y="160200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辅助信道数据发送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1904760" y="160200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040280" y="1602000"/>
                <a:ext cx="803160" cy="263520"/>
                <a:chOff x="4040280" y="1602000"/>
                <a:chExt cx="803160" cy="26352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4131000" y="160200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4040280" y="160200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1190520" y="1865520"/>
                <a:ext cx="713880" cy="263520"/>
                <a:chOff x="1190520" y="1865520"/>
                <a:chExt cx="713880" cy="2635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1280880" y="186552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RX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1190520" y="186552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1904760" y="1865520"/>
                <a:ext cx="2134800" cy="263520"/>
                <a:chOff x="1904760" y="1865520"/>
                <a:chExt cx="2134800" cy="2635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1995480" y="186552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辅助信道数据接收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1904760" y="186552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4040280" y="1865520"/>
                <a:ext cx="803160" cy="263520"/>
                <a:chOff x="4040280" y="1865520"/>
                <a:chExt cx="803160" cy="26352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4131000" y="186552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4040280" y="186552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87000" y="2129040"/>
                <a:ext cx="803160" cy="642960"/>
                <a:chOff x="387000" y="2129040"/>
                <a:chExt cx="803160" cy="64296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477720" y="2129040"/>
                  <a:ext cx="62100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定时</a:t>
                  </a:r>
                  <a:br>
                    <a:rPr sz="900"/>
                  </a:b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信号</a:t>
                  </a:r>
                  <a:br>
                    <a:rPr sz="900"/>
                  </a:b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87000" y="2129040"/>
                  <a:ext cx="803160" cy="64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1190520" y="2129040"/>
                <a:ext cx="713880" cy="214200"/>
                <a:chOff x="1190520" y="2129040"/>
                <a:chExt cx="713880" cy="2142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1280880" y="212904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1190520" y="212904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904760" y="2129040"/>
                <a:ext cx="2134800" cy="214200"/>
                <a:chOff x="1904760" y="2129040"/>
                <a:chExt cx="2134800" cy="21420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995480" y="21290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送信号定时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904760" y="21290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4040280" y="2129040"/>
                <a:ext cx="803160" cy="214200"/>
                <a:chOff x="4040280" y="2129040"/>
                <a:chExt cx="803160" cy="21420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4131000" y="21290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4040280" y="21290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4843800" y="2129040"/>
                <a:ext cx="3377880" cy="642960"/>
                <a:chOff x="4843800" y="2129040"/>
                <a:chExt cx="3377880" cy="64296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4934160" y="2129040"/>
                  <a:ext cx="3196800" cy="64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指示被传输的每个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bit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信息的中心位置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4843800" y="2129040"/>
                  <a:ext cx="3377880" cy="64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190520" y="2343600"/>
                <a:ext cx="713880" cy="214200"/>
                <a:chOff x="1190520" y="2343600"/>
                <a:chExt cx="713880" cy="2142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280880" y="234360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190520" y="234360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1904760" y="2343600"/>
                <a:ext cx="2134800" cy="214200"/>
                <a:chOff x="1904760" y="2343600"/>
                <a:chExt cx="2134800" cy="214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1995480" y="234360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接收信号定时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904760" y="234360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4040280" y="2343600"/>
                <a:ext cx="803160" cy="214200"/>
                <a:chOff x="4040280" y="2343600"/>
                <a:chExt cx="803160" cy="2142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4131000" y="23436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7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040280" y="234360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1190520" y="2557800"/>
                <a:ext cx="713880" cy="214200"/>
                <a:chOff x="1190520" y="2557800"/>
                <a:chExt cx="713880" cy="21420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1280880" y="255780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90520" y="255780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1904760" y="2557800"/>
                <a:ext cx="2134800" cy="214200"/>
                <a:chOff x="1904760" y="2557800"/>
                <a:chExt cx="2134800" cy="21420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995480" y="255780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送信号定时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904760" y="255780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4040280" y="2557800"/>
                <a:ext cx="803160" cy="214200"/>
                <a:chOff x="4040280" y="2557800"/>
                <a:chExt cx="803160" cy="21420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131000" y="25578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040280" y="255780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387000" y="2772360"/>
                <a:ext cx="803160" cy="1433880"/>
                <a:chOff x="387000" y="2772360"/>
                <a:chExt cx="803160" cy="143388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477720" y="2772360"/>
                  <a:ext cx="621000" cy="143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控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制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87000" y="2772360"/>
                  <a:ext cx="803160" cy="143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1190520" y="2772360"/>
                <a:ext cx="713880" cy="214200"/>
                <a:chOff x="1190520" y="2772360"/>
                <a:chExt cx="713880" cy="2142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1280880" y="277236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1190520" y="277236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1904760" y="2772360"/>
                <a:ext cx="2134800" cy="214200"/>
                <a:chOff x="1904760" y="2772360"/>
                <a:chExt cx="2134800" cy="21420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1995480" y="277236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请求发送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904760" y="277236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4040280" y="2772360"/>
                <a:ext cx="803160" cy="214200"/>
                <a:chOff x="4040280" y="2772360"/>
                <a:chExt cx="803160" cy="21420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4131000" y="277236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4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4040280" y="277236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843800" y="2772360"/>
                <a:ext cx="3377880" cy="214200"/>
                <a:chOff x="4843800" y="2772360"/>
                <a:chExt cx="3377880" cy="21420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934160" y="277236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给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843800" y="277236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1190520" y="2986560"/>
                <a:ext cx="713880" cy="214200"/>
                <a:chOff x="1190520" y="2986560"/>
                <a:chExt cx="713880" cy="21420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1280880" y="298656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1190520" y="298656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1904760" y="2986560"/>
                <a:ext cx="2134800" cy="214200"/>
                <a:chOff x="1904760" y="2986560"/>
                <a:chExt cx="2134800" cy="21420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1995480" y="298656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允许发送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904760" y="298656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4040280" y="2986560"/>
                <a:ext cx="803160" cy="214200"/>
                <a:chOff x="4040280" y="2986560"/>
                <a:chExt cx="803160" cy="21420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4131000" y="298656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4040280" y="298656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4843800" y="2986560"/>
                <a:ext cx="3377880" cy="214200"/>
                <a:chOff x="4843800" y="2986560"/>
                <a:chExt cx="3377880" cy="21420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4934160" y="298656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给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843800" y="298656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1190520" y="3200760"/>
                <a:ext cx="713880" cy="263520"/>
                <a:chOff x="1190520" y="3200760"/>
                <a:chExt cx="713880" cy="2635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1280880" y="320076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DS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1190520" y="320076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1904760" y="3200760"/>
                <a:ext cx="2134800" cy="263520"/>
                <a:chOff x="1904760" y="3200760"/>
                <a:chExt cx="2134800" cy="26352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995480" y="320076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装置就绪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904760" y="320076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40280" y="3200760"/>
                <a:ext cx="803160" cy="263520"/>
                <a:chOff x="4040280" y="3200760"/>
                <a:chExt cx="803160" cy="2635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131000" y="320076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4040280" y="320076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4843800" y="3200760"/>
                <a:ext cx="3377880" cy="263520"/>
                <a:chOff x="4843800" y="3200760"/>
                <a:chExt cx="3377880" cy="26352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934160" y="3200760"/>
                  <a:ext cx="3196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843800" y="3200760"/>
                  <a:ext cx="3377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9" name=""/>
              <p:cNvGrpSpPr/>
              <p:nvPr/>
            </p:nvGrpSpPr>
            <p:grpSpPr>
              <a:xfrm>
                <a:off x="1190520" y="3464640"/>
                <a:ext cx="713880" cy="263520"/>
                <a:chOff x="1190520" y="3464640"/>
                <a:chExt cx="713880" cy="26352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280880" y="346464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DT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190520" y="346464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2" name=""/>
              <p:cNvGrpSpPr/>
              <p:nvPr/>
            </p:nvGrpSpPr>
            <p:grpSpPr>
              <a:xfrm>
                <a:off x="1904760" y="3464640"/>
                <a:ext cx="2134800" cy="263520"/>
                <a:chOff x="1904760" y="3464640"/>
                <a:chExt cx="2134800" cy="2635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1995480" y="346464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装置就绪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1904760" y="346464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4040280" y="3464640"/>
                <a:ext cx="803160" cy="263520"/>
                <a:chOff x="4040280" y="3464640"/>
                <a:chExt cx="803160" cy="26352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4131000" y="346464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4040280" y="346464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4843800" y="3464640"/>
                <a:ext cx="3377880" cy="263520"/>
                <a:chOff x="4843800" y="3464640"/>
                <a:chExt cx="3377880" cy="26352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4934160" y="3464640"/>
                  <a:ext cx="3196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发给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843800" y="3464640"/>
                  <a:ext cx="3377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1190520" y="3728160"/>
                <a:ext cx="713880" cy="263520"/>
                <a:chOff x="1190520" y="3728160"/>
                <a:chExt cx="713880" cy="263520"/>
              </a:xfrm>
            </p:grpSpPr>
            <p:sp>
              <p:nvSpPr>
                <p:cNvPr id="452" name=""/>
                <p:cNvSpPr/>
                <p:nvPr/>
              </p:nvSpPr>
              <p:spPr>
                <a:xfrm>
                  <a:off x="1280880" y="372816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DC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1190520" y="372816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4" name=""/>
              <p:cNvGrpSpPr/>
              <p:nvPr/>
            </p:nvGrpSpPr>
            <p:grpSpPr>
              <a:xfrm>
                <a:off x="1904760" y="3728160"/>
                <a:ext cx="2134800" cy="263520"/>
                <a:chOff x="1904760" y="3728160"/>
                <a:chExt cx="2134800" cy="263520"/>
              </a:xfrm>
            </p:grpSpPr>
            <p:sp>
              <p:nvSpPr>
                <p:cNvPr id="455" name=""/>
                <p:cNvSpPr/>
                <p:nvPr/>
              </p:nvSpPr>
              <p:spPr>
                <a:xfrm>
                  <a:off x="1995480" y="372816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接收信号（载波）检测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1904760" y="372816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7" name=""/>
              <p:cNvGrpSpPr/>
              <p:nvPr/>
            </p:nvGrpSpPr>
            <p:grpSpPr>
              <a:xfrm>
                <a:off x="4040280" y="3728160"/>
                <a:ext cx="803160" cy="263520"/>
                <a:chOff x="4040280" y="3728160"/>
                <a:chExt cx="803160" cy="263520"/>
              </a:xfrm>
            </p:grpSpPr>
            <p:sp>
              <p:nvSpPr>
                <p:cNvPr id="458" name=""/>
                <p:cNvSpPr/>
                <p:nvPr/>
              </p:nvSpPr>
              <p:spPr>
                <a:xfrm>
                  <a:off x="4131000" y="372816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4040280" y="372816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0" name=""/>
              <p:cNvGrpSpPr/>
              <p:nvPr/>
            </p:nvGrpSpPr>
            <p:grpSpPr>
              <a:xfrm>
                <a:off x="4843800" y="3728160"/>
                <a:ext cx="3377880" cy="263520"/>
                <a:chOff x="4843800" y="3728160"/>
                <a:chExt cx="3377880" cy="26352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4934160" y="3728160"/>
                  <a:ext cx="3196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T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收到满足标准的信号时置位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4843800" y="3728160"/>
                  <a:ext cx="3377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190520" y="3991680"/>
                <a:ext cx="713880" cy="214200"/>
                <a:chOff x="1190520" y="3991680"/>
                <a:chExt cx="713880" cy="2142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280880" y="399168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190520" y="399168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1904760" y="3991680"/>
                <a:ext cx="2134800" cy="214200"/>
                <a:chOff x="1904760" y="3991680"/>
                <a:chExt cx="2134800" cy="2142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1995480" y="399168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振铃指示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1904760" y="399168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9" name=""/>
              <p:cNvGrpSpPr/>
              <p:nvPr/>
            </p:nvGrpSpPr>
            <p:grpSpPr>
              <a:xfrm>
                <a:off x="4040280" y="3991680"/>
                <a:ext cx="803160" cy="214200"/>
                <a:chOff x="4040280" y="3991680"/>
                <a:chExt cx="803160" cy="214200"/>
              </a:xfrm>
            </p:grpSpPr>
            <p:sp>
              <p:nvSpPr>
                <p:cNvPr id="470" name=""/>
                <p:cNvSpPr/>
                <p:nvPr/>
              </p:nvSpPr>
              <p:spPr>
                <a:xfrm>
                  <a:off x="4131000" y="399168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4040280" y="399168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843800" y="3991680"/>
                <a:ext cx="3377880" cy="214200"/>
                <a:chOff x="4843800" y="3991680"/>
                <a:chExt cx="3377880" cy="21420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4160" y="399168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收到振铃时置位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843800" y="399168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5" name=""/>
              <p:cNvGrpSpPr/>
              <p:nvPr/>
            </p:nvGrpSpPr>
            <p:grpSpPr>
              <a:xfrm>
                <a:off x="387000" y="4206240"/>
                <a:ext cx="803160" cy="1120680"/>
                <a:chOff x="387000" y="4206240"/>
                <a:chExt cx="803160" cy="112068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477720" y="4206240"/>
                  <a:ext cx="62100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87000" y="4206240"/>
                  <a:ext cx="803160" cy="112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" name=""/>
              <p:cNvGrpSpPr/>
              <p:nvPr/>
            </p:nvGrpSpPr>
            <p:grpSpPr>
              <a:xfrm>
                <a:off x="1190520" y="4206240"/>
                <a:ext cx="713880" cy="214200"/>
                <a:chOff x="1190520" y="4206240"/>
                <a:chExt cx="713880" cy="214200"/>
              </a:xfrm>
            </p:grpSpPr>
            <p:sp>
              <p:nvSpPr>
                <p:cNvPr id="479" name=""/>
                <p:cNvSpPr/>
                <p:nvPr/>
              </p:nvSpPr>
              <p:spPr>
                <a:xfrm>
                  <a:off x="1280880" y="420624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1190520" y="420624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1904760" y="4206240"/>
                <a:ext cx="2134800" cy="214200"/>
                <a:chOff x="1904760" y="4206240"/>
                <a:chExt cx="2134800" cy="21420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1995480" y="42062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信号质量检测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904760" y="42062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4040280" y="4206240"/>
                <a:ext cx="803160" cy="214200"/>
                <a:chOff x="4040280" y="4206240"/>
                <a:chExt cx="803160" cy="21420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4131000" y="42062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4040280" y="42062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7" name=""/>
              <p:cNvGrpSpPr/>
              <p:nvPr/>
            </p:nvGrpSpPr>
            <p:grpSpPr>
              <a:xfrm>
                <a:off x="4843800" y="4206240"/>
                <a:ext cx="3377880" cy="214200"/>
                <a:chOff x="4843800" y="4206240"/>
                <a:chExt cx="3377880" cy="21420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4934160" y="420624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由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根据数据信息是否有错而置位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/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复位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4843800" y="420624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1190520" y="4420440"/>
                <a:ext cx="713880" cy="214200"/>
                <a:chOff x="1190520" y="4420440"/>
                <a:chExt cx="713880" cy="21420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280880" y="442044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190520" y="442044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" name=""/>
              <p:cNvGrpSpPr/>
              <p:nvPr/>
            </p:nvGrpSpPr>
            <p:grpSpPr>
              <a:xfrm>
                <a:off x="1904760" y="4420440"/>
                <a:ext cx="2134800" cy="214200"/>
                <a:chOff x="1904760" y="4420440"/>
                <a:chExt cx="2134800" cy="21420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1995480" y="44204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数据信号速率选择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04760" y="44204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" name=""/>
              <p:cNvGrpSpPr/>
              <p:nvPr/>
            </p:nvGrpSpPr>
            <p:grpSpPr>
              <a:xfrm>
                <a:off x="4040280" y="4420440"/>
                <a:ext cx="803160" cy="214200"/>
                <a:chOff x="4040280" y="4420440"/>
                <a:chExt cx="803160" cy="2142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4131000" y="44204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4040280" y="44204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9" name=""/>
              <p:cNvGrpSpPr/>
              <p:nvPr/>
            </p:nvGrpSpPr>
            <p:grpSpPr>
              <a:xfrm>
                <a:off x="4843800" y="4420440"/>
                <a:ext cx="3377880" cy="214200"/>
                <a:chOff x="4843800" y="4420440"/>
                <a:chExt cx="3377880" cy="21420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4934160" y="4420440"/>
                  <a:ext cx="3196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指定两种传输速率中的一种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4843800" y="4420440"/>
                  <a:ext cx="3377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2" name=""/>
              <p:cNvGrpSpPr/>
              <p:nvPr/>
            </p:nvGrpSpPr>
            <p:grpSpPr>
              <a:xfrm>
                <a:off x="1190520" y="4635000"/>
                <a:ext cx="713880" cy="214200"/>
                <a:chOff x="1190520" y="4635000"/>
                <a:chExt cx="713880" cy="21420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1280880" y="463500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R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190520" y="463500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1904760" y="4635000"/>
                <a:ext cx="2134800" cy="214200"/>
                <a:chOff x="1904760" y="4635000"/>
                <a:chExt cx="2134800" cy="21420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1995480" y="463500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辅助信道请求发送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04760" y="463500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"/>
              <p:cNvGrpSpPr/>
              <p:nvPr/>
            </p:nvGrpSpPr>
            <p:grpSpPr>
              <a:xfrm>
                <a:off x="4040280" y="4635000"/>
                <a:ext cx="803160" cy="214200"/>
                <a:chOff x="4040280" y="4635000"/>
                <a:chExt cx="803160" cy="21420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4131000" y="46350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4040280" y="463500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4843800" y="4635000"/>
                <a:ext cx="3377880" cy="692280"/>
                <a:chOff x="4843800" y="4635000"/>
                <a:chExt cx="3377880" cy="69228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4934160" y="4635000"/>
                  <a:ext cx="3196800" cy="69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4843800" y="4635000"/>
                  <a:ext cx="3377880" cy="69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4" name=""/>
              <p:cNvGrpSpPr/>
              <p:nvPr/>
            </p:nvGrpSpPr>
            <p:grpSpPr>
              <a:xfrm>
                <a:off x="1190520" y="4849200"/>
                <a:ext cx="713880" cy="214200"/>
                <a:chOff x="1190520" y="4849200"/>
                <a:chExt cx="713880" cy="214200"/>
              </a:xfrm>
            </p:grpSpPr>
            <p:sp>
              <p:nvSpPr>
                <p:cNvPr id="515" name=""/>
                <p:cNvSpPr/>
                <p:nvPr/>
              </p:nvSpPr>
              <p:spPr>
                <a:xfrm>
                  <a:off x="1280880" y="484920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C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190520" y="484920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7" name=""/>
              <p:cNvGrpSpPr/>
              <p:nvPr/>
            </p:nvGrpSpPr>
            <p:grpSpPr>
              <a:xfrm>
                <a:off x="1904760" y="4849200"/>
                <a:ext cx="2134800" cy="214200"/>
                <a:chOff x="1904760" y="4849200"/>
                <a:chExt cx="2134800" cy="21420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995480" y="484920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辅助信道允许发送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904760" y="484920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4040280" y="4849200"/>
                <a:ext cx="803160" cy="214200"/>
                <a:chOff x="4040280" y="4849200"/>
                <a:chExt cx="803160" cy="21420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4131000" y="48492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040280" y="484920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3" name=""/>
              <p:cNvGrpSpPr/>
              <p:nvPr/>
            </p:nvGrpSpPr>
            <p:grpSpPr>
              <a:xfrm>
                <a:off x="1190520" y="5063760"/>
                <a:ext cx="713880" cy="263520"/>
                <a:chOff x="1190520" y="5063760"/>
                <a:chExt cx="713880" cy="2635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1280880" y="5063760"/>
                  <a:ext cx="5328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RC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1190520" y="5063760"/>
                  <a:ext cx="71388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1904760" y="5063760"/>
                <a:ext cx="2134800" cy="263520"/>
                <a:chOff x="1904760" y="5063760"/>
                <a:chExt cx="2134800" cy="26352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1995480" y="5063760"/>
                  <a:ext cx="195264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辅助信道接收检测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904760" y="5063760"/>
                  <a:ext cx="213480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9" name=""/>
              <p:cNvGrpSpPr/>
              <p:nvPr/>
            </p:nvGrpSpPr>
            <p:grpSpPr>
              <a:xfrm>
                <a:off x="4040280" y="5063760"/>
                <a:ext cx="803160" cy="263520"/>
                <a:chOff x="4040280" y="5063760"/>
                <a:chExt cx="803160" cy="26352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4131000" y="5063760"/>
                  <a:ext cx="621000" cy="263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4040280" y="5063760"/>
                  <a:ext cx="803160" cy="263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2" name=""/>
              <p:cNvGrpSpPr/>
              <p:nvPr/>
            </p:nvGrpSpPr>
            <p:grpSpPr>
              <a:xfrm>
                <a:off x="387000" y="5327280"/>
                <a:ext cx="803160" cy="1071720"/>
                <a:chOff x="387000" y="5327280"/>
                <a:chExt cx="803160" cy="1071720"/>
              </a:xfrm>
            </p:grpSpPr>
            <p:sp>
              <p:nvSpPr>
                <p:cNvPr id="533" name=""/>
                <p:cNvSpPr/>
                <p:nvPr/>
              </p:nvSpPr>
              <p:spPr>
                <a:xfrm>
                  <a:off x="477720" y="5327280"/>
                  <a:ext cx="621000" cy="107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备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用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线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87000" y="5327280"/>
                  <a:ext cx="803160" cy="107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1190520" y="5327280"/>
                <a:ext cx="713880" cy="214200"/>
                <a:chOff x="1190520" y="5327280"/>
                <a:chExt cx="713880" cy="21420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280880" y="532728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190520" y="532728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8" name=""/>
              <p:cNvGrpSpPr/>
              <p:nvPr/>
            </p:nvGrpSpPr>
            <p:grpSpPr>
              <a:xfrm>
                <a:off x="1904760" y="5327280"/>
                <a:ext cx="2134800" cy="214200"/>
                <a:chOff x="1904760" y="5327280"/>
                <a:chExt cx="2134800" cy="21420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1995480" y="532728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1904760" y="532728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1" name=""/>
              <p:cNvGrpSpPr/>
              <p:nvPr/>
            </p:nvGrpSpPr>
            <p:grpSpPr>
              <a:xfrm>
                <a:off x="4040280" y="5327280"/>
                <a:ext cx="803160" cy="214200"/>
                <a:chOff x="4040280" y="5327280"/>
                <a:chExt cx="803160" cy="214200"/>
              </a:xfrm>
            </p:grpSpPr>
            <p:sp>
              <p:nvSpPr>
                <p:cNvPr id="542" name=""/>
                <p:cNvSpPr/>
                <p:nvPr/>
              </p:nvSpPr>
              <p:spPr>
                <a:xfrm>
                  <a:off x="4131000" y="532728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9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4040280" y="532728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4" name=""/>
              <p:cNvGrpSpPr/>
              <p:nvPr/>
            </p:nvGrpSpPr>
            <p:grpSpPr>
              <a:xfrm>
                <a:off x="4843800" y="5327280"/>
                <a:ext cx="3377880" cy="1071720"/>
                <a:chOff x="4843800" y="5327280"/>
                <a:chExt cx="3377880" cy="1071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4934160" y="5327280"/>
                  <a:ext cx="3196800" cy="107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未定义，保留供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DCE</a:t>
                  </a: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装置测试使用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4843800" y="5327280"/>
                  <a:ext cx="3377880" cy="107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1190520" y="5541480"/>
                <a:ext cx="713880" cy="214200"/>
                <a:chOff x="1190520" y="5541480"/>
                <a:chExt cx="713880" cy="21420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280880" y="554148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0520" y="554148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" name=""/>
              <p:cNvGrpSpPr/>
              <p:nvPr/>
            </p:nvGrpSpPr>
            <p:grpSpPr>
              <a:xfrm>
                <a:off x="1904760" y="5541480"/>
                <a:ext cx="2134800" cy="214200"/>
                <a:chOff x="1904760" y="5541480"/>
                <a:chExt cx="2134800" cy="21420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995480" y="554148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904760" y="554148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4040280" y="5541480"/>
                <a:ext cx="803160" cy="214200"/>
                <a:chOff x="4040280" y="5541480"/>
                <a:chExt cx="803160" cy="21420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4131000" y="554148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040280" y="554148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" name=""/>
              <p:cNvGrpSpPr/>
              <p:nvPr/>
            </p:nvGrpSpPr>
            <p:grpSpPr>
              <a:xfrm>
                <a:off x="1190520" y="5756040"/>
                <a:ext cx="713880" cy="214200"/>
                <a:chOff x="1190520" y="5756040"/>
                <a:chExt cx="713880" cy="21420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1280880" y="575604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190520" y="575604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1904760" y="5756040"/>
                <a:ext cx="2134800" cy="214200"/>
                <a:chOff x="1904760" y="5756040"/>
                <a:chExt cx="2134800" cy="21420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1995480" y="57560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904760" y="57560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4040280" y="5756040"/>
                <a:ext cx="803160" cy="214200"/>
                <a:chOff x="4040280" y="5756040"/>
                <a:chExt cx="803160" cy="21420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4131000" y="57560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4040280" y="57560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1190520" y="5970240"/>
                <a:ext cx="713880" cy="214200"/>
                <a:chOff x="1190520" y="5970240"/>
                <a:chExt cx="713880" cy="21420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280880" y="597024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90520" y="597024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1904760" y="5970240"/>
                <a:ext cx="2134800" cy="214200"/>
                <a:chOff x="1904760" y="5970240"/>
                <a:chExt cx="2134800" cy="21420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1995480" y="597024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904760" y="597024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4040280" y="5970240"/>
                <a:ext cx="803160" cy="214200"/>
                <a:chOff x="4040280" y="5970240"/>
                <a:chExt cx="803160" cy="21420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4131000" y="597024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18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040280" y="597024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4" name=""/>
              <p:cNvGrpSpPr/>
              <p:nvPr/>
            </p:nvGrpSpPr>
            <p:grpSpPr>
              <a:xfrm>
                <a:off x="1190520" y="6184800"/>
                <a:ext cx="713880" cy="214200"/>
                <a:chOff x="1190520" y="6184800"/>
                <a:chExt cx="713880" cy="21420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1280880" y="6184800"/>
                  <a:ext cx="532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190520" y="6184800"/>
                  <a:ext cx="71388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1904760" y="6184800"/>
                <a:ext cx="2134800" cy="214200"/>
                <a:chOff x="1904760" y="6184800"/>
                <a:chExt cx="2134800" cy="21420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1995480" y="6184800"/>
                  <a:ext cx="19526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904760" y="6184800"/>
                  <a:ext cx="213480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4040280" y="6184800"/>
                <a:ext cx="803160" cy="214200"/>
                <a:chOff x="4040280" y="6184800"/>
                <a:chExt cx="803160" cy="21420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4131000" y="6184800"/>
                  <a:ext cx="6210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000000"/>
                      </a:solidFill>
                      <a:latin typeface="Times New Roman"/>
                    </a:rPr>
                    <a:t>25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4040280" y="6184800"/>
                  <a:ext cx="803160" cy="21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83" name=""/>
            <p:cNvSpPr/>
            <p:nvPr/>
          </p:nvSpPr>
          <p:spPr>
            <a:xfrm>
              <a:off x="380880" y="380880"/>
              <a:ext cx="7848360" cy="6019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8111880" y="838080"/>
            <a:ext cx="729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7-4  RS232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信号线及其在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DB-2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的针脚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143000" y="1523880"/>
            <a:ext cx="6063480" cy="2285280"/>
            <a:chOff x="1143000" y="1523880"/>
            <a:chExt cx="6063480" cy="2285280"/>
          </a:xfrm>
        </p:grpSpPr>
        <p:grpSp>
          <p:nvGrpSpPr>
            <p:cNvPr id="45" name=""/>
            <p:cNvGrpSpPr/>
            <p:nvPr/>
          </p:nvGrpSpPr>
          <p:grpSpPr>
            <a:xfrm>
              <a:off x="1143000" y="1523880"/>
              <a:ext cx="3865680" cy="2285280"/>
              <a:chOff x="1143000" y="1523880"/>
              <a:chExt cx="3865680" cy="2285280"/>
            </a:xfrm>
          </p:grpSpPr>
          <p:sp>
            <p:nvSpPr>
              <p:cNvPr id="46" name=""/>
              <p:cNvSpPr/>
              <p:nvPr/>
            </p:nvSpPr>
            <p:spPr>
              <a:xfrm rot="5400000">
                <a:off x="658080" y="2008440"/>
                <a:ext cx="2285280" cy="1316160"/>
              </a:xfrm>
              <a:prstGeom prst="triangle">
                <a:avLst>
                  <a:gd name="adj" fmla="val 50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455560" y="2646000"/>
                <a:ext cx="2553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>
              <a:off x="5012640" y="1908360"/>
              <a:ext cx="2193840" cy="1516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接收器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2895480" y="51055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工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2895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器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分立元件" descr=""/>
          <p:cNvPicPr/>
          <p:nvPr/>
        </p:nvPicPr>
        <p:blipFill>
          <a:blip r:embed="rId1"/>
          <a:stretch/>
        </p:blipFill>
        <p:spPr>
          <a:xfrm>
            <a:off x="1447920" y="1165320"/>
            <a:ext cx="4190760" cy="410364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5557680" y="1219320"/>
            <a:ext cx="1833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19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分离元件电平转换电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61936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集成电路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477120" cy="27162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2133720" y="4343400"/>
            <a:ext cx="518148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C1488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MC14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0  MC148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148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3176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3986280" cy="29383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6327000" y="1447920"/>
            <a:ext cx="911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1  MC14540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引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/>
          <p:nvPr/>
        </p:nvSpPr>
        <p:spPr>
          <a:xfrm>
            <a:off x="337176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计算机终端a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4648320" cy="2139840"/>
          </a:xfrm>
          <a:prstGeom prst="rect">
            <a:avLst/>
          </a:prstGeom>
          <a:ln w="0">
            <a:noFill/>
          </a:ln>
        </p:spPr>
      </p:pic>
      <p:sp>
        <p:nvSpPr>
          <p:cNvPr id="595" name=""/>
          <p:cNvSpPr/>
          <p:nvPr/>
        </p:nvSpPr>
        <p:spPr>
          <a:xfrm>
            <a:off x="298116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计算机终端b" descr=""/>
          <p:cNvPicPr/>
          <p:nvPr/>
        </p:nvPicPr>
        <p:blipFill>
          <a:blip r:embed="rId2"/>
          <a:stretch/>
        </p:blipFill>
        <p:spPr>
          <a:xfrm>
            <a:off x="1066680" y="3124080"/>
            <a:ext cx="5010120" cy="278928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>
            <a:off x="601992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3962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089120" y="1143000"/>
            <a:ext cx="91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终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与终端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计算机简化连接形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3.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机通信接口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多机通信原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口控制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C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多机通信接口控制位。串行口以方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接收时，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仅当接收到的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数据才装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U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置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请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数据进行处理；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则接收到一个数据后，不管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数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B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都将数据装入接收缓冲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BUF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置位中断标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请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P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理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243000"/>
            <a:ext cx="79246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925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多机通信程序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机通信程序设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典型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机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构成的主从式多机系统为例，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2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，阐述多机通信的程序设计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P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机多机通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编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如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L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LS</a:t>
            </a:r>
            <a:r>
              <a:rPr b="1" lang="zh-CN" sz="28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位用于设置新发送或接收的字长，详见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奇偶校验允许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E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SP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跟随校验位的组合见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    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多机通信实例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5" name=""/>
          <p:cNvGrpSpPr/>
          <p:nvPr/>
        </p:nvGrpSpPr>
        <p:grpSpPr>
          <a:xfrm>
            <a:off x="1523880" y="1143000"/>
            <a:ext cx="5776920" cy="2743200"/>
            <a:chOff x="1523880" y="1143000"/>
            <a:chExt cx="5776920" cy="2743200"/>
          </a:xfrm>
        </p:grpSpPr>
        <p:pic>
          <p:nvPicPr>
            <p:cNvPr id="606" name="PC51" descr=""/>
            <p:cNvPicPr/>
            <p:nvPr/>
          </p:nvPicPr>
          <p:blipFill>
            <a:blip r:embed="rId1"/>
            <a:stretch/>
          </p:blipFill>
          <p:spPr>
            <a:xfrm>
              <a:off x="1523880" y="1143000"/>
              <a:ext cx="577692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847400" y="2485080"/>
              <a:ext cx="1038600" cy="35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…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1523880" y="464832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3  P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机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CS-5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片机多机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"/>
          <p:cNvGrpSpPr/>
          <p:nvPr/>
        </p:nvGrpSpPr>
        <p:grpSpPr>
          <a:xfrm>
            <a:off x="1447920" y="2693880"/>
            <a:ext cx="6248160" cy="1469880"/>
            <a:chOff x="1447920" y="2693880"/>
            <a:chExt cx="6248160" cy="1469880"/>
          </a:xfrm>
        </p:grpSpPr>
        <p:grpSp>
          <p:nvGrpSpPr>
            <p:cNvPr id="610" name=""/>
            <p:cNvGrpSpPr/>
            <p:nvPr/>
          </p:nvGrpSpPr>
          <p:grpSpPr>
            <a:xfrm>
              <a:off x="1452600" y="2698560"/>
              <a:ext cx="6238800" cy="1460520"/>
              <a:chOff x="1452600" y="2698560"/>
              <a:chExt cx="6238800" cy="1460520"/>
            </a:xfrm>
          </p:grpSpPr>
          <p:grpSp>
            <p:nvGrpSpPr>
              <p:cNvPr id="611" name=""/>
              <p:cNvGrpSpPr/>
              <p:nvPr/>
            </p:nvGrpSpPr>
            <p:grpSpPr>
              <a:xfrm>
                <a:off x="1452600" y="2698560"/>
                <a:ext cx="779400" cy="730080"/>
                <a:chOff x="1452600" y="2698560"/>
                <a:chExt cx="779400" cy="73008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15210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7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452600" y="2698560"/>
                  <a:ext cx="7794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"/>
              <p:cNvGrpSpPr/>
              <p:nvPr/>
            </p:nvGrpSpPr>
            <p:grpSpPr>
              <a:xfrm>
                <a:off x="2232000" y="2698560"/>
                <a:ext cx="779400" cy="730080"/>
                <a:chOff x="2232000" y="2698560"/>
                <a:chExt cx="779400" cy="730080"/>
              </a:xfrm>
            </p:grpSpPr>
            <p:sp>
              <p:nvSpPr>
                <p:cNvPr id="615" name=""/>
                <p:cNvSpPr/>
                <p:nvPr/>
              </p:nvSpPr>
              <p:spPr>
                <a:xfrm>
                  <a:off x="23004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2232000" y="2698560"/>
                  <a:ext cx="7794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"/>
              <p:cNvGrpSpPr/>
              <p:nvPr/>
            </p:nvGrpSpPr>
            <p:grpSpPr>
              <a:xfrm>
                <a:off x="3011400" y="2698560"/>
                <a:ext cx="779760" cy="730080"/>
                <a:chOff x="3011400" y="2698560"/>
                <a:chExt cx="779760" cy="730080"/>
              </a:xfrm>
            </p:grpSpPr>
            <p:sp>
              <p:nvSpPr>
                <p:cNvPr id="618" name=""/>
                <p:cNvSpPr/>
                <p:nvPr/>
              </p:nvSpPr>
              <p:spPr>
                <a:xfrm>
                  <a:off x="30798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011400" y="2698560"/>
                  <a:ext cx="77976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"/>
              <p:cNvGrpSpPr/>
              <p:nvPr/>
            </p:nvGrpSpPr>
            <p:grpSpPr>
              <a:xfrm>
                <a:off x="3791160" y="2698560"/>
                <a:ext cx="780840" cy="730080"/>
                <a:chOff x="3791160" y="2698560"/>
                <a:chExt cx="780840" cy="730080"/>
              </a:xfrm>
            </p:grpSpPr>
            <p:sp>
              <p:nvSpPr>
                <p:cNvPr id="621" name=""/>
                <p:cNvSpPr/>
                <p:nvPr/>
              </p:nvSpPr>
              <p:spPr>
                <a:xfrm>
                  <a:off x="3859200" y="2698560"/>
                  <a:ext cx="6444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3791160" y="2698560"/>
                  <a:ext cx="78084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"/>
              <p:cNvGrpSpPr/>
              <p:nvPr/>
            </p:nvGrpSpPr>
            <p:grpSpPr>
              <a:xfrm>
                <a:off x="4572000" y="2698560"/>
                <a:ext cx="779400" cy="730080"/>
                <a:chOff x="4572000" y="2698560"/>
                <a:chExt cx="779400" cy="730080"/>
              </a:xfrm>
            </p:grpSpPr>
            <p:sp>
              <p:nvSpPr>
                <p:cNvPr id="624" name=""/>
                <p:cNvSpPr/>
                <p:nvPr/>
              </p:nvSpPr>
              <p:spPr>
                <a:xfrm>
                  <a:off x="46404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4572000" y="2698560"/>
                  <a:ext cx="7794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"/>
              <p:cNvGrpSpPr/>
              <p:nvPr/>
            </p:nvGrpSpPr>
            <p:grpSpPr>
              <a:xfrm>
                <a:off x="5351400" y="2698560"/>
                <a:ext cx="779400" cy="730080"/>
                <a:chOff x="5351400" y="2698560"/>
                <a:chExt cx="779400" cy="730080"/>
              </a:xfrm>
            </p:grpSpPr>
            <p:sp>
              <p:nvSpPr>
                <p:cNvPr id="627" name=""/>
                <p:cNvSpPr/>
                <p:nvPr/>
              </p:nvSpPr>
              <p:spPr>
                <a:xfrm>
                  <a:off x="54198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5351400" y="2698560"/>
                  <a:ext cx="7794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"/>
              <p:cNvGrpSpPr/>
              <p:nvPr/>
            </p:nvGrpSpPr>
            <p:grpSpPr>
              <a:xfrm>
                <a:off x="6130800" y="2698560"/>
                <a:ext cx="779760" cy="730080"/>
                <a:chOff x="6130800" y="2698560"/>
                <a:chExt cx="779760" cy="730080"/>
              </a:xfrm>
            </p:grpSpPr>
            <p:sp>
              <p:nvSpPr>
                <p:cNvPr id="630" name=""/>
                <p:cNvSpPr/>
                <p:nvPr/>
              </p:nvSpPr>
              <p:spPr>
                <a:xfrm>
                  <a:off x="6199200" y="2698560"/>
                  <a:ext cx="6429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6130800" y="2698560"/>
                  <a:ext cx="77976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6910560" y="2698560"/>
                <a:ext cx="780840" cy="730080"/>
                <a:chOff x="6910560" y="2698560"/>
                <a:chExt cx="780840" cy="73008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6978600" y="2698560"/>
                  <a:ext cx="64476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Bit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6910560" y="2698560"/>
                  <a:ext cx="78084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"/>
              <p:cNvGrpSpPr/>
              <p:nvPr/>
            </p:nvGrpSpPr>
            <p:grpSpPr>
              <a:xfrm>
                <a:off x="1452600" y="3428640"/>
                <a:ext cx="779400" cy="730440"/>
                <a:chOff x="1452600" y="3428640"/>
                <a:chExt cx="779400" cy="73044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15210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DLA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452600" y="3428640"/>
                  <a:ext cx="7794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"/>
              <p:cNvGrpSpPr/>
              <p:nvPr/>
            </p:nvGrpSpPr>
            <p:grpSpPr>
              <a:xfrm>
                <a:off x="2232000" y="3428640"/>
                <a:ext cx="779400" cy="730440"/>
                <a:chOff x="2232000" y="3428640"/>
                <a:chExt cx="779400" cy="73044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23004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断线设定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2232000" y="3428640"/>
                  <a:ext cx="7794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011400" y="3428640"/>
                <a:ext cx="779760" cy="730440"/>
                <a:chOff x="3011400" y="3428640"/>
                <a:chExt cx="779760" cy="73044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0798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跟随检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011400" y="3428640"/>
                  <a:ext cx="77976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"/>
              <p:cNvGrpSpPr/>
              <p:nvPr/>
            </p:nvGrpSpPr>
            <p:grpSpPr>
              <a:xfrm>
                <a:off x="3791160" y="3428640"/>
                <a:ext cx="780840" cy="730440"/>
                <a:chOff x="3791160" y="3428640"/>
                <a:chExt cx="780840" cy="73044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859200" y="3428640"/>
                  <a:ext cx="64440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P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791160" y="3428640"/>
                  <a:ext cx="78084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4572000" y="3428640"/>
                <a:ext cx="779400" cy="730440"/>
                <a:chOff x="4572000" y="3428640"/>
                <a:chExt cx="779400" cy="73044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6404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4572000" y="3428640"/>
                  <a:ext cx="7794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"/>
              <p:cNvGrpSpPr/>
              <p:nvPr/>
            </p:nvGrpSpPr>
            <p:grpSpPr>
              <a:xfrm>
                <a:off x="5351400" y="3428640"/>
                <a:ext cx="779400" cy="730440"/>
                <a:chOff x="5351400" y="3428640"/>
                <a:chExt cx="779400" cy="730440"/>
              </a:xfrm>
            </p:grpSpPr>
            <p:sp>
              <p:nvSpPr>
                <p:cNvPr id="651" name=""/>
                <p:cNvSpPr/>
                <p:nvPr/>
              </p:nvSpPr>
              <p:spPr>
                <a:xfrm>
                  <a:off x="54198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T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351400" y="3428640"/>
                  <a:ext cx="77940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"/>
              <p:cNvGrpSpPr/>
              <p:nvPr/>
            </p:nvGrpSpPr>
            <p:grpSpPr>
              <a:xfrm>
                <a:off x="6130800" y="3428640"/>
                <a:ext cx="779760" cy="730440"/>
                <a:chOff x="6130800" y="3428640"/>
                <a:chExt cx="779760" cy="73044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199200" y="3428640"/>
                  <a:ext cx="6429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LS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130800" y="3428640"/>
                  <a:ext cx="77976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"/>
              <p:cNvGrpSpPr/>
              <p:nvPr/>
            </p:nvGrpSpPr>
            <p:grpSpPr>
              <a:xfrm>
                <a:off x="6910560" y="3428640"/>
                <a:ext cx="780840" cy="730440"/>
                <a:chOff x="6910560" y="3428640"/>
                <a:chExt cx="780840" cy="730440"/>
              </a:xfrm>
            </p:grpSpPr>
            <p:sp>
              <p:nvSpPr>
                <p:cNvPr id="657" name=""/>
                <p:cNvSpPr/>
                <p:nvPr/>
              </p:nvSpPr>
              <p:spPr>
                <a:xfrm>
                  <a:off x="6978600" y="3428640"/>
                  <a:ext cx="644760" cy="73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WLS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6910560" y="3428640"/>
                  <a:ext cx="780840" cy="73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"/>
            <p:cNvSpPr/>
            <p:nvPr/>
          </p:nvSpPr>
          <p:spPr>
            <a:xfrm>
              <a:off x="1447920" y="2693880"/>
              <a:ext cx="6248160" cy="1469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3048120" y="1600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5  LC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端口地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1" name=""/>
          <p:cNvGrpSpPr/>
          <p:nvPr/>
        </p:nvGrpSpPr>
        <p:grpSpPr>
          <a:xfrm>
            <a:off x="1789200" y="1940040"/>
            <a:ext cx="5565600" cy="2977920"/>
            <a:chOff x="1789200" y="1940040"/>
            <a:chExt cx="5565600" cy="2977920"/>
          </a:xfrm>
        </p:grpSpPr>
        <p:grpSp>
          <p:nvGrpSpPr>
            <p:cNvPr id="662" name=""/>
            <p:cNvGrpSpPr/>
            <p:nvPr/>
          </p:nvGrpSpPr>
          <p:grpSpPr>
            <a:xfrm>
              <a:off x="1793880" y="1944720"/>
              <a:ext cx="5556240" cy="2968560"/>
              <a:chOff x="1793880" y="1944720"/>
              <a:chExt cx="5556240" cy="2968560"/>
            </a:xfrm>
          </p:grpSpPr>
          <p:grpSp>
            <p:nvGrpSpPr>
              <p:cNvPr id="663" name=""/>
              <p:cNvGrpSpPr/>
              <p:nvPr/>
            </p:nvGrpSpPr>
            <p:grpSpPr>
              <a:xfrm>
                <a:off x="1793880" y="1944720"/>
                <a:ext cx="1909800" cy="593640"/>
                <a:chOff x="1793880" y="1944720"/>
                <a:chExt cx="1909800" cy="59364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1862280" y="1944720"/>
                  <a:ext cx="1773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WLS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黑体"/>
                    </a:rPr>
                    <a:t>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bit1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1793880" y="1944720"/>
                  <a:ext cx="19098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6" name=""/>
              <p:cNvGrpSpPr/>
              <p:nvPr/>
            </p:nvGrpSpPr>
            <p:grpSpPr>
              <a:xfrm>
                <a:off x="3703680" y="1944720"/>
                <a:ext cx="1811160" cy="593640"/>
                <a:chOff x="3703680" y="1944720"/>
                <a:chExt cx="1811160" cy="59364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3772080" y="1944720"/>
                  <a:ext cx="1674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WLS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"/>
                      <a:ea typeface="黑体"/>
                    </a:rPr>
                    <a:t>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bit0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703680" y="1944720"/>
                  <a:ext cx="18111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5514840" y="1944720"/>
                <a:ext cx="1835280" cy="593640"/>
                <a:chOff x="5514840" y="1944720"/>
                <a:chExt cx="1835280" cy="59364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5583240" y="1944720"/>
                  <a:ext cx="1698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数据字长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514840" y="1944720"/>
                  <a:ext cx="18352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1793880" y="2538360"/>
                <a:ext cx="1909800" cy="593640"/>
                <a:chOff x="1793880" y="2538360"/>
                <a:chExt cx="1909800" cy="59364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1862280" y="2538360"/>
                  <a:ext cx="1773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1793880" y="2538360"/>
                  <a:ext cx="19098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3703680" y="2538360"/>
                <a:ext cx="1811160" cy="593640"/>
                <a:chOff x="3703680" y="2538360"/>
                <a:chExt cx="1811160" cy="5936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3772080" y="2538360"/>
                  <a:ext cx="1674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703680" y="2538360"/>
                  <a:ext cx="18111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8" name=""/>
              <p:cNvGrpSpPr/>
              <p:nvPr/>
            </p:nvGrpSpPr>
            <p:grpSpPr>
              <a:xfrm>
                <a:off x="5514840" y="2538360"/>
                <a:ext cx="1835280" cy="593640"/>
                <a:chOff x="5514840" y="2538360"/>
                <a:chExt cx="1835280" cy="593640"/>
              </a:xfrm>
            </p:grpSpPr>
            <p:sp>
              <p:nvSpPr>
                <p:cNvPr id="679" name=""/>
                <p:cNvSpPr/>
                <p:nvPr/>
              </p:nvSpPr>
              <p:spPr>
                <a:xfrm>
                  <a:off x="5583240" y="2538360"/>
                  <a:ext cx="1698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5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5514840" y="2538360"/>
                  <a:ext cx="18352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1" name=""/>
              <p:cNvGrpSpPr/>
              <p:nvPr/>
            </p:nvGrpSpPr>
            <p:grpSpPr>
              <a:xfrm>
                <a:off x="1793880" y="3132000"/>
                <a:ext cx="1909800" cy="594000"/>
                <a:chOff x="1793880" y="3132000"/>
                <a:chExt cx="1909800" cy="594000"/>
              </a:xfrm>
            </p:grpSpPr>
            <p:sp>
              <p:nvSpPr>
                <p:cNvPr id="682" name=""/>
                <p:cNvSpPr/>
                <p:nvPr/>
              </p:nvSpPr>
              <p:spPr>
                <a:xfrm>
                  <a:off x="1862280" y="3132000"/>
                  <a:ext cx="17730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1793880" y="3132000"/>
                  <a:ext cx="19098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3703680" y="3132000"/>
                <a:ext cx="1811160" cy="594000"/>
                <a:chOff x="3703680" y="3132000"/>
                <a:chExt cx="1811160" cy="594000"/>
              </a:xfrm>
            </p:grpSpPr>
            <p:sp>
              <p:nvSpPr>
                <p:cNvPr id="685" name=""/>
                <p:cNvSpPr/>
                <p:nvPr/>
              </p:nvSpPr>
              <p:spPr>
                <a:xfrm>
                  <a:off x="3772080" y="3132000"/>
                  <a:ext cx="167472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703680" y="3132000"/>
                  <a:ext cx="181116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5514840" y="3132000"/>
                <a:ext cx="1835280" cy="594000"/>
                <a:chOff x="5514840" y="3132000"/>
                <a:chExt cx="1835280" cy="5940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583240" y="3132000"/>
                  <a:ext cx="169848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6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514840" y="3132000"/>
                  <a:ext cx="183528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1793880" y="3726000"/>
                <a:ext cx="1909800" cy="593640"/>
                <a:chOff x="1793880" y="3726000"/>
                <a:chExt cx="1909800" cy="59364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1862280" y="3726000"/>
                  <a:ext cx="1773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1793880" y="3726000"/>
                  <a:ext cx="19098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3703680" y="3726000"/>
                <a:ext cx="1811160" cy="593640"/>
                <a:chOff x="3703680" y="3726000"/>
                <a:chExt cx="1811160" cy="59364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3772080" y="3726000"/>
                  <a:ext cx="1674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703680" y="3726000"/>
                  <a:ext cx="18111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5514840" y="3726000"/>
                <a:ext cx="1835280" cy="593640"/>
                <a:chOff x="5514840" y="3726000"/>
                <a:chExt cx="1835280" cy="5936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583240" y="3726000"/>
                  <a:ext cx="1698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7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14840" y="3726000"/>
                  <a:ext cx="18352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9" name=""/>
              <p:cNvGrpSpPr/>
              <p:nvPr/>
            </p:nvGrpSpPr>
            <p:grpSpPr>
              <a:xfrm>
                <a:off x="1793880" y="4319640"/>
                <a:ext cx="1909800" cy="593640"/>
                <a:chOff x="1793880" y="4319640"/>
                <a:chExt cx="1909800" cy="593640"/>
              </a:xfrm>
            </p:grpSpPr>
            <p:sp>
              <p:nvSpPr>
                <p:cNvPr id="700" name=""/>
                <p:cNvSpPr/>
                <p:nvPr/>
              </p:nvSpPr>
              <p:spPr>
                <a:xfrm>
                  <a:off x="1862280" y="4319640"/>
                  <a:ext cx="17730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1793880" y="4319640"/>
                  <a:ext cx="19098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703680" y="4319640"/>
                <a:ext cx="1811160" cy="593640"/>
                <a:chOff x="3703680" y="4319640"/>
                <a:chExt cx="1811160" cy="59364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3772080" y="4319640"/>
                  <a:ext cx="167472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3703680" y="4319640"/>
                  <a:ext cx="181116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5514840" y="4319640"/>
                <a:ext cx="1835280" cy="593640"/>
                <a:chOff x="5514840" y="4319640"/>
                <a:chExt cx="1835280" cy="59364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5583240" y="4319640"/>
                  <a:ext cx="169848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5514840" y="4319640"/>
                  <a:ext cx="183528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8" name=""/>
            <p:cNvSpPr/>
            <p:nvPr/>
          </p:nvSpPr>
          <p:spPr>
            <a:xfrm>
              <a:off x="1789200" y="1940040"/>
              <a:ext cx="5565600" cy="2977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1981080" y="9907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6  WLS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WLS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位设置的字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"/>
          <p:cNvGrpSpPr/>
          <p:nvPr/>
        </p:nvGrpSpPr>
        <p:grpSpPr>
          <a:xfrm>
            <a:off x="1701720" y="1940040"/>
            <a:ext cx="5742000" cy="2977920"/>
            <a:chOff x="1701720" y="1940040"/>
            <a:chExt cx="5742000" cy="2977920"/>
          </a:xfrm>
        </p:grpSpPr>
        <p:grpSp>
          <p:nvGrpSpPr>
            <p:cNvPr id="711" name=""/>
            <p:cNvGrpSpPr/>
            <p:nvPr/>
          </p:nvGrpSpPr>
          <p:grpSpPr>
            <a:xfrm>
              <a:off x="1706400" y="1944720"/>
              <a:ext cx="5732640" cy="2968560"/>
              <a:chOff x="1706400" y="1944720"/>
              <a:chExt cx="5732640" cy="2968560"/>
            </a:xfrm>
          </p:grpSpPr>
          <p:grpSp>
            <p:nvGrpSpPr>
              <p:cNvPr id="712" name=""/>
              <p:cNvGrpSpPr/>
              <p:nvPr/>
            </p:nvGrpSpPr>
            <p:grpSpPr>
              <a:xfrm>
                <a:off x="1706400" y="1944720"/>
                <a:ext cx="1305000" cy="593640"/>
                <a:chOff x="1706400" y="1944720"/>
                <a:chExt cx="1305000" cy="59364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1774800" y="1944720"/>
                  <a:ext cx="1168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跟随校验位（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bit5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1706400" y="1944720"/>
                  <a:ext cx="1305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3011400" y="1944720"/>
                <a:ext cx="1520640" cy="593640"/>
                <a:chOff x="3011400" y="1944720"/>
                <a:chExt cx="1520640" cy="59364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3079440" y="1944720"/>
                  <a:ext cx="1384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EPS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bit4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3011400" y="1944720"/>
                  <a:ext cx="1520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532040" y="1944720"/>
                <a:ext cx="1521000" cy="593640"/>
                <a:chOff x="4532040" y="1944720"/>
                <a:chExt cx="1521000" cy="59364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600440" y="1944720"/>
                  <a:ext cx="1384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PEN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（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bit3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）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532040" y="1944720"/>
                  <a:ext cx="1521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6053040" y="1944720"/>
                <a:ext cx="1386000" cy="593640"/>
                <a:chOff x="6053040" y="1944720"/>
                <a:chExt cx="1386000" cy="59364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6121080" y="1944720"/>
                  <a:ext cx="1249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校验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6053040" y="1944720"/>
                  <a:ext cx="1386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1706400" y="2538360"/>
                <a:ext cx="1305000" cy="593640"/>
                <a:chOff x="1706400" y="2538360"/>
                <a:chExt cx="1305000" cy="59364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1774800" y="2538360"/>
                  <a:ext cx="1168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706400" y="2538360"/>
                  <a:ext cx="1305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3011400" y="2538360"/>
                <a:ext cx="1520640" cy="593640"/>
                <a:chOff x="3011400" y="2538360"/>
                <a:chExt cx="1520640" cy="59364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3079440" y="2538360"/>
                  <a:ext cx="1384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011400" y="2538360"/>
                  <a:ext cx="1520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4532040" y="2538360"/>
                <a:ext cx="1521000" cy="593640"/>
                <a:chOff x="4532040" y="2538360"/>
                <a:chExt cx="1521000" cy="59364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4600440" y="2538360"/>
                  <a:ext cx="1384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532040" y="2538360"/>
                  <a:ext cx="1521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6053040" y="2538360"/>
                <a:ext cx="1386000" cy="593640"/>
                <a:chOff x="6053040" y="2538360"/>
                <a:chExt cx="1386000" cy="59364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6121080" y="2538360"/>
                  <a:ext cx="1249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奇校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6053040" y="2538360"/>
                  <a:ext cx="1386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1706400" y="3132000"/>
                <a:ext cx="1305000" cy="594000"/>
                <a:chOff x="1706400" y="3132000"/>
                <a:chExt cx="1305000" cy="59400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1774800" y="3132000"/>
                  <a:ext cx="11682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706400" y="3132000"/>
                  <a:ext cx="1305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011400" y="3132000"/>
                <a:ext cx="1520640" cy="594000"/>
                <a:chOff x="3011400" y="3132000"/>
                <a:chExt cx="1520640" cy="59400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079440" y="3132000"/>
                  <a:ext cx="1384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011400" y="3132000"/>
                  <a:ext cx="152064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4532040" y="3132000"/>
                <a:ext cx="1521000" cy="594000"/>
                <a:chOff x="4532040" y="3132000"/>
                <a:chExt cx="1521000" cy="59400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4600440" y="3132000"/>
                  <a:ext cx="138420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4532040" y="3132000"/>
                  <a:ext cx="1521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6053040" y="3132000"/>
                <a:ext cx="1386000" cy="594000"/>
                <a:chOff x="6053040" y="3132000"/>
                <a:chExt cx="1386000" cy="5940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6121080" y="3132000"/>
                  <a:ext cx="1249560" cy="59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偶校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053040" y="3132000"/>
                  <a:ext cx="1386000" cy="59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706400" y="3726000"/>
                <a:ext cx="1305000" cy="593640"/>
                <a:chOff x="1706400" y="3726000"/>
                <a:chExt cx="1305000" cy="59364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774800" y="3726000"/>
                  <a:ext cx="1168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706400" y="3726000"/>
                  <a:ext cx="1305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3011400" y="3726000"/>
                <a:ext cx="1520640" cy="593640"/>
                <a:chOff x="3011400" y="3726000"/>
                <a:chExt cx="1520640" cy="5936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3079440" y="3726000"/>
                  <a:ext cx="1384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3011400" y="3726000"/>
                  <a:ext cx="1520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4532040" y="3726000"/>
                <a:ext cx="1521000" cy="593640"/>
                <a:chOff x="4532040" y="3726000"/>
                <a:chExt cx="1521000" cy="59364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4600440" y="3726000"/>
                  <a:ext cx="1384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4532040" y="3726000"/>
                  <a:ext cx="1521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053040" y="3726000"/>
                <a:ext cx="1386000" cy="593640"/>
                <a:chOff x="6053040" y="3726000"/>
                <a:chExt cx="1386000" cy="59364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6121080" y="3726000"/>
                  <a:ext cx="1249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校验值为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053040" y="3726000"/>
                  <a:ext cx="1386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1706400" y="4319640"/>
                <a:ext cx="1305000" cy="593640"/>
                <a:chOff x="1706400" y="4319640"/>
                <a:chExt cx="1305000" cy="5936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1774800" y="4319640"/>
                  <a:ext cx="1168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706400" y="4319640"/>
                  <a:ext cx="1305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3011400" y="4319640"/>
                <a:ext cx="1520640" cy="593640"/>
                <a:chOff x="3011400" y="4319640"/>
                <a:chExt cx="1520640" cy="59364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3079440" y="4319640"/>
                  <a:ext cx="1384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3011400" y="4319640"/>
                  <a:ext cx="152064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4532040" y="4319640"/>
                <a:ext cx="1521000" cy="593640"/>
                <a:chOff x="4532040" y="4319640"/>
                <a:chExt cx="1521000" cy="59364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4600440" y="4319640"/>
                  <a:ext cx="138420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4532040" y="4319640"/>
                  <a:ext cx="1521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053040" y="4319640"/>
                <a:ext cx="1386000" cy="593640"/>
                <a:chOff x="6053040" y="4319640"/>
                <a:chExt cx="1386000" cy="59364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121080" y="4319640"/>
                  <a:ext cx="1249560" cy="59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校验值为“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0”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053040" y="4319640"/>
                  <a:ext cx="1386000" cy="59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72" name=""/>
            <p:cNvSpPr/>
            <p:nvPr/>
          </p:nvSpPr>
          <p:spPr>
            <a:xfrm>
              <a:off x="1701720" y="1940040"/>
              <a:ext cx="5742000" cy="2977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1905120" y="1066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7  PE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ES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跟随校验位的组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886200" y="2895480"/>
            <a:ext cx="1509840" cy="466920"/>
          </a:xfrm>
          <a:prstGeom prst="leftRightArrow">
            <a:avLst>
              <a:gd name="adj1" fmla="val 50000"/>
              <a:gd name="adj2" fmla="val 6437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133720"/>
            <a:ext cx="2940120" cy="214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1280160" y="2148480"/>
            <a:ext cx="809640" cy="1084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3276720"/>
            <a:ext cx="1074600" cy="55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666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10080" y="2133720"/>
            <a:ext cx="3149640" cy="226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19920" y="2666880"/>
            <a:ext cx="2880" cy="103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124760" y="2514600"/>
            <a:ext cx="1181160" cy="514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30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353360" y="3085920"/>
            <a:ext cx="761760" cy="1143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494480" y="3517920"/>
            <a:ext cx="88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33440" y="2666880"/>
            <a:ext cx="10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734920" y="6867360"/>
            <a:ext cx="16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581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181160" y="2514600"/>
            <a:ext cx="95256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43520" y="2362320"/>
            <a:ext cx="1214280" cy="16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1992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3657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5029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半双工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THANK YOU VERY MUCH 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030320" y="2533680"/>
            <a:ext cx="715176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>
            <a:hlinkClick r:id="" action="ppaction://hlinkshowjump?jump=endshow"/>
          </p:cNvPr>
          <p:cNvSpPr/>
          <p:nvPr/>
        </p:nvSpPr>
        <p:spPr>
          <a:xfrm>
            <a:off x="5562720" y="63828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62520" y="1981080"/>
            <a:ext cx="874440" cy="181080"/>
          </a:xfrm>
          <a:prstGeom prst="leftRightArrow">
            <a:avLst>
              <a:gd name="adj1" fmla="val 50000"/>
              <a:gd name="adj2" fmla="val 9613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447920"/>
            <a:ext cx="176076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5400000">
            <a:off x="2227320" y="1658880"/>
            <a:ext cx="761760" cy="125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01680" y="2133720"/>
            <a:ext cx="71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31240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3200400" y="2286000"/>
            <a:ext cx="281952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124080" y="335268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00600" y="1447920"/>
            <a:ext cx="1766880" cy="259056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114800" y="1523880"/>
            <a:ext cx="74628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数据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1905120"/>
            <a:ext cx="1143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接收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5400000">
            <a:off x="6265440" y="2725920"/>
            <a:ext cx="762120" cy="125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40520" y="3200400"/>
            <a:ext cx="717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发送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00400" y="4724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双工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05120" y="50292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步串行通信数据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62120" y="2401920"/>
          <a:ext cx="7619760" cy="15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01920"/>
                    <a:ext cx="7619760" cy="15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133720" y="1828800"/>
            <a:ext cx="4952880" cy="2142360"/>
            <a:chOff x="2133720" y="1828800"/>
            <a:chExt cx="4952880" cy="2142360"/>
          </a:xfrm>
        </p:grpSpPr>
        <p:sp>
          <p:nvSpPr>
            <p:cNvPr id="86" name=""/>
            <p:cNvSpPr/>
            <p:nvPr/>
          </p:nvSpPr>
          <p:spPr>
            <a:xfrm>
              <a:off x="2133720" y="2762640"/>
              <a:ext cx="1320840" cy="11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同步字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530880" y="292788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54560" y="3751920"/>
              <a:ext cx="86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4368960" y="3642120"/>
              <a:ext cx="278640" cy="329040"/>
              <a:chOff x="4368960" y="3642120"/>
              <a:chExt cx="278640" cy="329040"/>
            </a:xfrm>
          </p:grpSpPr>
          <p:sp>
            <p:nvSpPr>
              <p:cNvPr id="90" name=""/>
              <p:cNvSpPr/>
              <p:nvPr/>
            </p:nvSpPr>
            <p:spPr>
              <a:xfrm>
                <a:off x="4368960" y="3642120"/>
                <a:ext cx="126720" cy="329040"/>
              </a:xfrm>
              <a:custGeom>
                <a:avLst/>
                <a:gdLst/>
                <a:ahLst/>
                <a:rect l="l" t="t" r="r" b="b"/>
                <a:pathLst>
                  <a:path w="154" h="198">
                    <a:moveTo>
                      <a:pt x="147" y="0"/>
                    </a:moveTo>
                    <a:cubicBezTo>
                      <a:pt x="94" y="22"/>
                      <a:pt x="42" y="44"/>
                      <a:pt x="42" y="66"/>
                    </a:cubicBezTo>
                    <a:cubicBezTo>
                      <a:pt x="42" y="88"/>
                      <a:pt x="154" y="110"/>
                      <a:pt x="147" y="132"/>
                    </a:cubicBezTo>
                    <a:cubicBezTo>
                      <a:pt x="140" y="154"/>
                      <a:pt x="70" y="176"/>
                      <a:pt x="0" y="19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520880" y="3642120"/>
                <a:ext cx="126720" cy="329040"/>
              </a:xfrm>
              <a:custGeom>
                <a:avLst/>
                <a:gdLst/>
                <a:ahLst/>
                <a:rect l="l" t="t" r="r" b="b"/>
                <a:pathLst>
                  <a:path w="154" h="198">
                    <a:moveTo>
                      <a:pt x="147" y="0"/>
                    </a:moveTo>
                    <a:cubicBezTo>
                      <a:pt x="94" y="22"/>
                      <a:pt x="42" y="44"/>
                      <a:pt x="42" y="66"/>
                    </a:cubicBezTo>
                    <a:cubicBezTo>
                      <a:pt x="42" y="88"/>
                      <a:pt x="154" y="110"/>
                      <a:pt x="147" y="132"/>
                    </a:cubicBezTo>
                    <a:cubicBezTo>
                      <a:pt x="140" y="154"/>
                      <a:pt x="70" y="176"/>
                      <a:pt x="0" y="19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4368960" y="2762640"/>
              <a:ext cx="278640" cy="329040"/>
              <a:chOff x="4368960" y="2762640"/>
              <a:chExt cx="278640" cy="329040"/>
            </a:xfrm>
          </p:grpSpPr>
          <p:sp>
            <p:nvSpPr>
              <p:cNvPr id="93" name=""/>
              <p:cNvSpPr/>
              <p:nvPr/>
            </p:nvSpPr>
            <p:spPr>
              <a:xfrm>
                <a:off x="4368960" y="2762640"/>
                <a:ext cx="126720" cy="329040"/>
              </a:xfrm>
              <a:custGeom>
                <a:avLst/>
                <a:gdLst/>
                <a:ahLst/>
                <a:rect l="l" t="t" r="r" b="b"/>
                <a:pathLst>
                  <a:path w="154" h="198">
                    <a:moveTo>
                      <a:pt x="147" y="0"/>
                    </a:moveTo>
                    <a:cubicBezTo>
                      <a:pt x="94" y="22"/>
                      <a:pt x="42" y="44"/>
                      <a:pt x="42" y="66"/>
                    </a:cubicBezTo>
                    <a:cubicBezTo>
                      <a:pt x="42" y="88"/>
                      <a:pt x="154" y="110"/>
                      <a:pt x="147" y="132"/>
                    </a:cubicBezTo>
                    <a:cubicBezTo>
                      <a:pt x="140" y="154"/>
                      <a:pt x="70" y="176"/>
                      <a:pt x="0" y="19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520880" y="2762640"/>
                <a:ext cx="126720" cy="329040"/>
              </a:xfrm>
              <a:custGeom>
                <a:avLst/>
                <a:gdLst/>
                <a:ahLst/>
                <a:rect l="l" t="t" r="r" b="b"/>
                <a:pathLst>
                  <a:path w="154" h="198">
                    <a:moveTo>
                      <a:pt x="147" y="0"/>
                    </a:moveTo>
                    <a:cubicBezTo>
                      <a:pt x="94" y="22"/>
                      <a:pt x="42" y="44"/>
                      <a:pt x="42" y="66"/>
                    </a:cubicBezTo>
                    <a:cubicBezTo>
                      <a:pt x="42" y="88"/>
                      <a:pt x="154" y="110"/>
                      <a:pt x="147" y="132"/>
                    </a:cubicBezTo>
                    <a:cubicBezTo>
                      <a:pt x="140" y="154"/>
                      <a:pt x="70" y="176"/>
                      <a:pt x="0" y="19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4724280" y="292788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49840" y="3751920"/>
              <a:ext cx="9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664240" y="2762640"/>
              <a:ext cx="1422360" cy="11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CRC</a:t>
              </a: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字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362320" y="1828800"/>
              <a:ext cx="8888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0960" y="1938600"/>
              <a:ext cx="121896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终止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911760" y="2982600"/>
              <a:ext cx="1142640" cy="76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</a:rPr>
                <a:t>数据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2438280" y="46483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步通信数据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59680" y="63450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  MCS-5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串行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口的结构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串行口的工作方式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.2.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波特率的计算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3333cc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2.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串行口的结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串行口控制寄存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C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寄存器的字节地址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98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可位寻址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SCO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格式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7-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457200" y="3352680"/>
            <a:ext cx="7924320" cy="1447560"/>
            <a:chOff x="457200" y="3352680"/>
            <a:chExt cx="7924320" cy="1447560"/>
          </a:xfrm>
        </p:grpSpPr>
        <p:grpSp>
          <p:nvGrpSpPr>
            <p:cNvPr id="109" name=""/>
            <p:cNvGrpSpPr/>
            <p:nvPr/>
          </p:nvGrpSpPr>
          <p:grpSpPr>
            <a:xfrm>
              <a:off x="463680" y="3357360"/>
              <a:ext cx="7909560" cy="1437480"/>
              <a:chOff x="463680" y="3357360"/>
              <a:chExt cx="7909560" cy="1437480"/>
            </a:xfrm>
          </p:grpSpPr>
          <p:grpSp>
            <p:nvGrpSpPr>
              <p:cNvPr id="110" name=""/>
              <p:cNvGrpSpPr/>
              <p:nvPr/>
            </p:nvGrpSpPr>
            <p:grpSpPr>
              <a:xfrm>
                <a:off x="463680" y="3357360"/>
                <a:ext cx="978480" cy="1437480"/>
                <a:chOff x="463680" y="3357360"/>
                <a:chExt cx="978480" cy="14374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541080" y="3357360"/>
                  <a:ext cx="823680" cy="1437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SCO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位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63680" y="3357360"/>
                  <a:ext cx="978480" cy="1437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442520" y="3357360"/>
                <a:ext cx="777960" cy="700920"/>
                <a:chOff x="1442520" y="3357360"/>
                <a:chExt cx="777960" cy="7009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519920" y="3357360"/>
                  <a:ext cx="62316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442520" y="3357360"/>
                  <a:ext cx="77796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221200" y="3357360"/>
                <a:ext cx="878400" cy="700920"/>
                <a:chOff x="2221200" y="3357360"/>
                <a:chExt cx="878400" cy="7009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298600" y="3357360"/>
                  <a:ext cx="72396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2120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99960" y="3357360"/>
                <a:ext cx="878760" cy="700920"/>
                <a:chOff x="3099960" y="3357360"/>
                <a:chExt cx="878760" cy="7009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177360" y="3357360"/>
                  <a:ext cx="72396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SM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99960" y="3357360"/>
                  <a:ext cx="87876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3979440" y="3357360"/>
                <a:ext cx="878400" cy="700920"/>
                <a:chOff x="3979440" y="3357360"/>
                <a:chExt cx="878400" cy="7009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056840" y="3357360"/>
                  <a:ext cx="723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397944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4858200" y="3357360"/>
                <a:ext cx="878400" cy="700920"/>
                <a:chOff x="4858200" y="3357360"/>
                <a:chExt cx="878400" cy="7009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4935600" y="3357360"/>
                  <a:ext cx="723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B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485820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5736960" y="3357360"/>
                <a:ext cx="878400" cy="700920"/>
                <a:chOff x="5736960" y="3357360"/>
                <a:chExt cx="878400" cy="7009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5814360" y="3357360"/>
                  <a:ext cx="723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B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Times New Roman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573696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616080" y="3357360"/>
                <a:ext cx="878400" cy="700920"/>
                <a:chOff x="6616080" y="3357360"/>
                <a:chExt cx="878400" cy="7009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693480" y="3357360"/>
                  <a:ext cx="723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61608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7494840" y="3357360"/>
                <a:ext cx="878400" cy="700920"/>
                <a:chOff x="7494840" y="3357360"/>
                <a:chExt cx="878400" cy="7009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572240" y="3357360"/>
                  <a:ext cx="723600" cy="70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R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494840" y="3357360"/>
                  <a:ext cx="878400" cy="700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1442520" y="4058640"/>
                <a:ext cx="777960" cy="736200"/>
                <a:chOff x="1442520" y="4058640"/>
                <a:chExt cx="777960" cy="73620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1519920" y="4058640"/>
                  <a:ext cx="62316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F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442520" y="4058640"/>
                  <a:ext cx="77796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2221200" y="4058640"/>
                <a:ext cx="878400" cy="736200"/>
                <a:chOff x="2221200" y="4058640"/>
                <a:chExt cx="878400" cy="7362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2298600" y="4058640"/>
                  <a:ext cx="72396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222120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3099960" y="4058640"/>
                <a:ext cx="878760" cy="736200"/>
                <a:chOff x="3099960" y="4058640"/>
                <a:chExt cx="878760" cy="7362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177360" y="4058640"/>
                  <a:ext cx="72396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99960" y="4058640"/>
                  <a:ext cx="87876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3979440" y="4058640"/>
                <a:ext cx="878400" cy="736200"/>
                <a:chOff x="3979440" y="4058640"/>
                <a:chExt cx="878400" cy="73620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4056840" y="4058640"/>
                  <a:ext cx="72360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97944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4858200" y="4058640"/>
                <a:ext cx="878400" cy="736200"/>
                <a:chOff x="4858200" y="4058640"/>
                <a:chExt cx="878400" cy="7362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935600" y="4058640"/>
                  <a:ext cx="72360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485820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5736960" y="4058640"/>
                <a:ext cx="878400" cy="736200"/>
                <a:chOff x="5736960" y="4058640"/>
                <a:chExt cx="878400" cy="736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814360" y="4058640"/>
                  <a:ext cx="72360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9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73696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616080" y="4058640"/>
                <a:ext cx="878400" cy="736200"/>
                <a:chOff x="6616080" y="4058640"/>
                <a:chExt cx="878400" cy="73620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693480" y="4058640"/>
                  <a:ext cx="72360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99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61608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494840" y="4058640"/>
                <a:ext cx="878400" cy="736200"/>
                <a:chOff x="7494840" y="4058640"/>
                <a:chExt cx="878400" cy="73620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7572240" y="4058640"/>
                  <a:ext cx="723600" cy="736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</a:rPr>
                    <a:t>98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7494840" y="4058640"/>
                  <a:ext cx="878400" cy="736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457200" y="3352680"/>
              <a:ext cx="7924320" cy="1447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057400" y="52578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-6  SCO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格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819520"/>
            <a:ext cx="75438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31T07:50:57Z</dcterms:created>
  <dc:creator>liwu</dc:creator>
  <dc:description/>
  <dc:language>en-US</dc:language>
  <cp:lastModifiedBy>lei</cp:lastModifiedBy>
  <dcterms:modified xsi:type="dcterms:W3CDTF">2002-06-12T15:42:38Z</dcterms:modified>
  <cp:revision>30</cp:revision>
  <dc:subject/>
  <dc:title>第7章  串行通信及其接口 </dc:title>
</cp:coreProperties>
</file>